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0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9" name="PlaceHolder 2"/>
          <p:cNvSpPr>
            <a:spLocks noGrp="1"/>
          </p:cNvSpPr>
          <p:nvPr>
            <p:ph type="dt" idx="7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10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2" name="PlaceHolder 5"/>
          <p:cNvSpPr>
            <a:spLocks noGrp="1"/>
          </p:cNvSpPr>
          <p:nvPr>
            <p:ph type="ftr" idx="7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3" name="PlaceHolder 6"/>
          <p:cNvSpPr>
            <a:spLocks noGrp="1"/>
          </p:cNvSpPr>
          <p:nvPr>
            <p:ph type="sldNum" idx="7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7703-1BA8-431E-885C-45CA4F1AE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5A7B-397D-483E-AD64-6A313B3FD557}"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00B3-C70A-4EF6-A3C1-C0FC4817B1CA}"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64E54B4-AB9E-4BCB-81B3-F48DCF222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4E38DF5-EF44-4941-AFAB-DAEEB7E71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D5DF1EE0-F3D7-4F58-9D3B-C786D1FC9A4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6A5FF839-5A2A-4E65-8C22-22B055046BA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3C22B663-923B-4F58-9F98-1E6C6A074C9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69EC12D6-5F90-4D78-9B32-3574F99010C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2680E14C-8424-4115-8E48-B5BD58404AB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B3216AA9-8ACA-4716-8D62-536777CC0A5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054218CD-652F-461A-A82A-92EC97F2F7F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4014B164-57E1-4E05-ABD0-0E05974C334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7884946B-8FDE-4F73-BB4D-E27D3C8A2FD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807A6A52-BE2F-47F7-91D6-5647F05AD83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D76DF7C-7194-46D0-86BD-A6B11FA61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70A5D15C-CC67-4E0E-88E2-3249D8873B0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AA468D1B-3A57-4AED-A11E-B3307855DBB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02956E46-E8C9-4280-B52A-331B7AE9E7E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8489BE34-7759-46B6-8C61-D4F6286E521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7A556088-D9C0-430F-B063-8225D601BAE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676EB78B-8FC4-4180-A3D1-AEE7444439A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AD67CFB5-A7A8-49E1-862B-E0201009BFE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1E115160-104A-43A4-9D1D-337BDAC1A8B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D1D51643-920C-4E6C-B26C-F75DBC5B654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0F7AB75B-A4EA-4F7E-92E0-D68FD88E0B3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8C3484C-C065-476F-AE8C-A78979CA9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302519A9-2054-4105-AA6E-E0E1AD39D71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54376119-5052-444D-AB47-B55F83B6635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F04BE660-1867-428A-9905-3E02CD49100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DCD4A998-BF53-45A2-847A-69D33641D07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B626AECB-E93E-4701-A0AE-F746FEFB029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0D714919-B2C0-468F-A078-91FD061B2F0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1770605E-C91F-4003-8FFC-CF94AD142B0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8551CF0A-8968-4C35-BB1D-50355C36993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AAD54F95-30D7-4925-BB4B-1EF2E8525C6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57690F67-8BEB-445F-A22C-961D26EA521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954DB-E684-4839-8103-2CD72CBF4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FB66301C-1B2C-4F31-A43C-7584A6DA44F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1E980657-37D4-44CC-ACC3-B451FE706BC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BE4B34A8-2FF8-48C0-9B58-59A89942E8D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8C85AFFA-D11A-4D35-8D79-5B8CCFB3B08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8D0B2750-1306-4190-8943-AB2C7F155A4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5EAB514D-97DC-4CEC-91D8-E968DA715E3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89AC0C85-E0AC-4ED7-91D3-660971E2EA2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9526D0A5-D956-479B-AFF6-B0B5F8C1BB4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6778465C-A00B-4A71-9347-524009EB276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A6528A1F-E667-4A2D-9B57-57BC1304869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A11BF-0157-4933-9019-91090E889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102FF8E9-6BA6-43B5-B780-EC514FE0BF2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AED67CF6-B089-4D66-A2D1-FF23CAFE6FD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0D30BF48-C81C-4B69-A1C2-2DE821CA75F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8D00C293-2D98-410A-8D1C-7081F5CFA7D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C26A91B4-3768-4C6F-AF29-26E7926D693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EE4EA868-3F64-4CE4-AC8E-711513E87E1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B525F5B7-3336-483E-92CB-167EBD2EA53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22C14505-AED8-4B7B-9CE1-2FA9B148D01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E447E1ED-1685-4FAA-9057-344D1AEEC3B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28836DB1-1C01-47A3-8ACF-12FD9FB9485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53837-4C9C-4102-9ACB-A049E3219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646D8EE5-85DF-4EA7-BE42-3B0E9E8C3AA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D9AE54E0-8677-4322-A62A-4176ED5B39E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E8055025-CFD5-43EA-860C-E7E3B6C7F5C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B55B8F49-B014-4D2A-9CC9-AAB3819CE07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D7BB6C3E-FD30-4B21-A099-705E0ADD43A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2F96FD57-75E3-4D58-A459-690E6B8AFD4E}"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EB2981D3-C110-43F1-81CF-7F8848E26D9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F9D57B9-1239-43C1-A893-9CA6F924DAFB}"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119C0C1-2C95-431E-A98E-6C9B19532A9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1DA0D89-C712-4945-9EDF-B9A27818E46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36539-F8FA-4A65-8433-D6221A05B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8E1C0AD-20BF-48E4-9130-FCB317EBF1C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3C652AC-570B-41A3-B7EA-940FD217627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1B8FDCA-1AEA-4A33-BC59-6CCA8F6424B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0417E81-E713-4ED6-8A9F-9A2D9F80359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33CFB6A-FCA6-4811-83CE-638F1FE82B4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80EE4CE-CC52-413A-878C-810ABE22540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CFEB147-370B-4899-A722-0E0646BD9F1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C09125A-9601-467A-A7C5-12EEB1499237}"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DEF57DD-08EC-4DF0-B8CF-4CF8B1CC4AC7}"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6063192-0B11-4AE8-9A7F-323C33EFBEE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8131C-FEC0-44BC-B515-8D7AD0743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2FF73DC-7559-4000-B5BB-7E8845CCCB0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DFEF623-08F9-4AB0-89DF-574399C7D58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5F58F9E0-39A5-431D-A665-E0424A363F9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5AC8C33-BB8D-40C0-A5F7-FD191EC7E42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A8C64C1C-D0A2-4CEA-A39D-BC29CC6EFBA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33F9B6D-E9FE-4E2A-8908-C15C1032E5D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CC5AD2F-A3DB-47A2-AE70-317B5F69AE2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1426F77-8171-4D15-922E-3457F0AAEE0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88244BD-A9FF-44E2-81C9-2AA6FE29ADB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784DF9B5-48FF-4826-9E29-E2903306666F}"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BAE02-7EF9-4F2B-B1FD-267576EE8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38D36B77-49A0-4F16-AB84-3D05E88CEBE4}"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680B0553-C66B-4ABA-95ED-5F99DFEF4D92}"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1EB96E1C-2847-406F-9A34-2993D24AA92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F7B6AC15-61D6-4599-A0DE-286E038320F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3C898B22-86AE-4F3A-8DA4-3AD9B7309B2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49553420-2BB7-4C84-A647-C72A6C58ABA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BCA15AE-B044-4350-A3D2-922AEB75750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A28D26E-E42B-4C62-8017-2B87C0310DE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9DA90E8-D2C6-4242-B87C-49596C583BE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E6EC898-1F24-4E4B-A165-26EB0C089BD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3421C-95F4-46CE-9091-A0727FC6C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AFDC989-8C06-4194-B606-41AF165A97E4}"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8735E9C8-7814-4A7F-A9C2-FDBEE8348DF8}"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CC4882C3-E131-434E-B4CD-F63E7DDD535B}"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30E7EB86-85E3-4318-9586-A403130843E9}"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9DE8B0C-2245-402C-9392-80EE810C32B8}"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8B955F95-8BE4-477E-B5BB-57B45D66980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506850D-6F01-4D9C-8C0B-3ACD14349D59}"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EDA1CE5-1A16-42BB-83B6-9492AC1831E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04B81A2-28AC-4E8A-A75B-BD8A80B707F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F6552A3C-A32E-4D7E-9898-BE82A3F9657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E08128E-C593-4E81-B641-289BE0B59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1F88F-ABBA-4352-AD3B-AD9377662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AAFF672-DCD8-4CD9-A468-3B86C5F7EF4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DFD8C98-A769-4C18-910C-9D04A7713F3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12122A0-FC5D-4032-8D50-90DB5C467B9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B8321F2E-B688-4297-8106-DC3AA99E544B}"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95F246E5-FB07-47F9-A8B8-B175D0628654}"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5CADDDEA-B808-4943-B3C2-5D5C46F1DAE9}"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4ADDC62F-0EBA-47A0-B60A-75D8B19B38D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F9647C0-1B5C-49C4-92FE-613EFE49FFAF}"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76A16430-64D0-4A48-867B-7FEF45E2F5B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FA1C7C1-A806-4B1C-B80F-8E458998506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D1954-793A-4610-A1CD-F6129CE64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2799F109-B06C-4D32-A101-CAA41C3A4F28}"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3B566B2-B0CE-46C6-A4AA-E5B60A6FF91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82F1855-C12D-4533-9E91-D36CDAE5F7B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15A4EEF-E3F2-4F6F-B7E8-89D411AD996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B268CF5-F6A4-4201-94A7-1D73C0AD653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D10151C5-D097-4DB1-81B7-0F6CCC132922}"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AA683E60-8464-4592-AFC0-24F861AAC688}"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90AE353B-14E7-402E-9885-D4E55D51C12B}"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00D2B7F-C35A-4E13-9809-F8987CB8653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7E6D83A-B4D9-44DF-A03E-75D1ACDF4E0D}"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8881B-C5AC-4FAC-8D45-7C73085B6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49F2165-5B84-492E-B16F-7938C0D5691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65E121E-287E-4DDA-A2A0-454F692E805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9FBDF9A7-259E-482A-809C-28E08B83A96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66C3A19-3276-4CAF-86F7-6DCD1987E37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994CB10-AE7B-48AB-8287-580571DA537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1DB237C-266A-4C34-843D-3DCB72244D1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B6BC977-D842-4403-9591-9AE724443D83}"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7D2A4015-4274-425B-9CED-7C6703AD5F8E}"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09736071-7172-488D-AD07-B67BE64A51CA}"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D0C6D440-13ED-4E2B-B1D0-014DCFA45838}"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394F5-B28F-4FC8-BE4D-214F54CBB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001A283-0242-47E3-820E-B8F66BC8899C}"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5EB93DD-B1DE-438F-9573-5A06AF8E351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8EAA1F9-88C9-435D-A9EB-B62485D5D92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1BA8E19-933C-461E-A44B-BDD2850C1AD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FE652DE3-4D2E-49E7-995A-03C404E59D7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CA060B6-CC76-4AC1-B6FD-4EDA06A5CE7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0965E9C-35C4-4181-ADD9-656D7375348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495A980-C57E-4EE9-BB70-5D9D048C84C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2A536A0F-C9FE-4DE8-AED6-ABBF75AAF71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32D89945-71D7-4314-AE4B-938315A6B292}"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8C345-B5EF-4312-A7AE-A439ABDC0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93B9DCDB-50FA-439B-B1B7-28870692FBFD}"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C8B959DE-6970-41E2-8C2D-CC160EB57442}"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1AEA7CC2-2D75-4C3F-B6E1-A00B0EB6797E}"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B7D12D6-81C4-4C1C-ADAC-FDB5E6E6EB16}"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4CD737E-5205-44AA-A1CC-B9565914224B}"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302827C1-09B6-43F3-8A05-099B8F7BB18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AE1E2EF-1A8E-41DF-87FF-FCC319BA8AE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9BB95A8-F06E-41E7-9DC1-16218C19F73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3D31AFB-D6F2-4A9C-8C4A-11D76481446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A07DDFF-B3F9-4E2E-AA6C-4DED8634114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38DA976-DB78-4A80-AD4E-5EA1B3FDFC1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4E9510B-3F49-4555-B8CC-0B41C69ECE06}"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F12D6C77-6A45-49AD-B4C4-D7D339B465D1}"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0A29F0EB-D313-4787-84C9-B434B04A9FFA}"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492C48FA-88FB-4FC6-A18D-E078375092A6}"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FBF0132-3C4A-4553-AC23-9FE867F521E1}"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A786180-BA41-436C-ABC8-680D2AEDA7C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7E05093-0AED-4CBC-BD12-260D096C2DD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9BEDA9FF-7517-4EF4-B957-DD79915558B8}"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454F7D3-52A5-48E2-87B0-A823954C0E65}"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94A18B8-7846-45CA-BCF6-D2121620B50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90ABFA2-1117-4126-AD07-D3C565BEEED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38D32D88-9511-41B0-81B7-B688A85243C0}"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2151509-1912-4F45-877E-60CC9C2C261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8118E50B-E878-42F1-83DF-4E1AA708AB20}"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62F5B0E4-7946-4585-A57B-AB288A7DFFF2}"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2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07D20CA4-50AF-407A-AB79-8F28F958A486}"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8C778259-AD1B-4075-B3D4-70CE74B8E75C}"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A642E75C-1F01-44B0-AE66-1FD453E5929B}"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90C0AF9C-52BE-42E1-B4AC-D7EEB00DC7C1}"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63CD6698-7027-4FCA-9412-DDC93B818234}"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BA1EE53E-0FD7-42EB-9FFE-28CFD2AFA00F}"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7D6869E-FD77-4ECF-BA60-9CCCA2CBE55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44C3AD6A-EDA6-431F-8551-F1978819316E}"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398DB014-BFFB-40A5-8514-7A64049AD633}"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DE90D9CA-58FD-4128-8BB1-BCBF6770FD7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3EFF1E66-C4FB-49CD-AA16-42122B25A6F3}"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DAFDFBA6-FB11-40D6-87E2-C3239961FCAA}"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50E11A85-C531-489C-9306-F96AA70B8672}"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C0F68F72-7188-4A2D-BDFD-A7B3A03EAA09}"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753716C0-177C-4DAC-9C4A-B4C2E6788656}"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10FF13CB-D19A-43C9-95B2-ABFB8E655981}"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D55CAB8A-A0AA-4EBF-A488-381913EBAF89}"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0B1CB66-CEE9-413A-B153-B1E80791B90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D13191AC-33F7-4E36-A4C2-CF4F8552AE8F}"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8BF39E3D-88C8-4375-99F3-5292A9E2E204}"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7B17286A-B808-4250-B3CB-6179BB4214EC}"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DA7140E8-E14F-42F9-A2A1-9BD46984CD1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B5EDEDCC-74C6-48FC-8588-196C7B3F28E6}"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863FE573-6645-4D67-8139-9C6A24FA4155}"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59DE924B-9187-43DB-A17A-C512CCCD5F3E}"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DC50FFCC-AC08-42BB-B3D7-1A55EFFB8B61}"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80C130C7-3547-4B4E-ABDA-295102AF05DE}"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2"/>
          </p:nvPr>
        </p:nvSpPr>
        <p:spPr/>
        <p:txBody>
          <a:bodyPr/>
          <a:p>
            <a:fld id="{F0013ACD-7BBD-47C3-BD72-B6D13E5DC1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143101A-C07C-47F1-B5D8-EC033250DD2F}"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078A3163-63DB-405C-A60A-7F8386F6918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CC77FDB9-1E6B-4676-8331-012C738395E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E1386625-E5DA-420D-9303-481674BDC6E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45A62F2D-1AB8-49C3-A4A7-CBD89F00F859}"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461B6B95-EC67-4B5C-9D04-0598C0F8DCD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7B4F76DA-E6A9-4D8B-8434-A10686DB89C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B530D041-6E7D-405A-A86B-2619AD4EB6A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2DBC1750-D43C-41B2-9DF7-487E139EB47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41DEFAB6-19D5-409A-BF72-8D49B491594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2"/>
          </p:nvPr>
        </p:nvSpPr>
        <p:spPr/>
        <p:txBody>
          <a:bodyPr/>
          <a:p>
            <a:fld id="{5C2418F1-151C-4836-8C31-1885AE86D4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7D9B717-514E-43F5-A2A3-2F82FCA25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9C09CAD-9F33-4833-B014-2C4335CF7FD2}"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2"/>
          </p:nvPr>
        </p:nvSpPr>
        <p:spPr/>
        <p:txBody>
          <a:bodyPr/>
          <a:p>
            <a:fld id="{4A5ACA2A-1745-406D-92E1-4899F43E6C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F6FE48-861E-4041-A7D3-A14052CBE8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A08289D-37DC-4D9C-B602-9D0A6A1EFA6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29B1F24-0032-4F1D-8A57-15C6BB4D4E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CEB4BBA-92DD-4CBE-B6C1-B0704EBBF9A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BF17692-7345-46C0-B12B-5A9B8F219E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85A7E92-6D24-48E9-AB54-301816841A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562A362-89FD-4079-BC5E-DDE5C279B4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8890414-ED13-4619-8367-F9C4E35AA7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6EAE18A-B3BA-4804-A47F-D212F95F2A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9B8F83-B02E-41CA-B44E-0130D8506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4323326-A151-4A17-8ADF-CBB6EAEEFE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8067B75-9B33-4372-A03D-CC5C5944A8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A94090D-7135-4E17-BD70-EEEB556FAE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A41857D-4191-449F-AEFC-48A9B0782C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3EFFDC9-B3C4-4A05-BCFA-84C2D07643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AF78416-53D5-4C38-B700-F3AE1F05DA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092F29D-3397-4B60-BA2A-7B183B4339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8B397D1F-395D-45FC-AEAF-1919F6D2ADC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2B71022-1A38-42AC-ABF8-E9EA4366BB6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589599D6-2281-4107-8604-1BDE95938E1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7DF7EBB-FECA-49FF-809A-AA7D3CDF5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E30CF45-065E-48AC-A1A1-1A90C12A009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23C19B58-56E3-48CD-B98F-262F7801D51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55C016B5-D6EE-4BA4-9355-C63D10F341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A75414CC-2406-4C46-9E7E-2E638F9B29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A4554A01-A35B-4D70-9044-3106BB49BF9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D81D690-0F4F-49B5-81E5-33F6F20E09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F8EA027-85D8-4DB1-A5FA-2FC8FCC78D7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6AD49F6-C49C-440D-BD96-CB42294014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AA1368E-4990-476B-AAE5-23CD9984277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42B6499B-319E-45AE-BD2B-92D48B98E23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192B70-B5BD-4F84-B44A-19FA40BAB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93EABF1C-0F26-47D6-B50C-44B9F1A73AA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BFD18819-7FA5-42D8-BF2C-38953C04F84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CAE79C6B-1F92-4E7F-A2B5-DE50B182B96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2D29CB48-3736-4B75-8480-EDEB07A4131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50262B9A-39D0-43CC-856D-823BC6D91EB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2DB57802-F139-40D1-A534-0B3B89D9EA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431F995D-207C-4859-9F69-2E09C93D77D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CDC26FB2-7F7B-45F4-A88D-5D07DA3A9D6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78AD273-B5AC-444F-932A-D41FEE4ACAA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CE5848C5-7279-4322-8470-73EF30CCDEF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CD4C95-A0F0-43A6-8592-81E55127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D6DACC67-DB93-49BA-AB2F-C9687135DCB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A56E52DF-B11D-476D-BDB3-9863A831AFB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F51D1C37-E66D-4B36-94DC-7C8AC5C3056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8F07C1A7-B99C-4566-9EBA-9D1014A7E91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40827AF1-3CC6-44BF-8613-0FECF7E4EBD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E30780B-855C-4758-B124-A8BED493817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E4E1DE8B-501D-4711-A496-86D476BCDEE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A0E4636F-4CE8-4885-BA8B-630B6C3BD75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2A15518C-CBD9-4380-B817-10DAF626E8D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008C281-201A-47B2-9BE6-F64A575DBFB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7D80EF-E7FE-4D1B-B616-B3E5E720C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0B6FF49-9573-4C4C-A0A1-42A3140082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0323275-1020-4395-8964-0B3FC7FD711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E641A3DF-B9B1-4ADE-A349-58C560A2DF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59A5F278-A492-4E15-AD5E-6E530737535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6D9C3803-9B0F-4329-8EF5-928AEE493C3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872093ED-45AC-4BEC-8CFA-C27F11DDBC6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9DD0A43C-1747-4715-B679-8228D21DF83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9B73323F-629C-4E9B-9687-3D8B48857C0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3361C49E-B92A-4EEE-BBE6-43F54BE3E8F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8A38B880-07AC-4CF7-A265-B1A4173A1F6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B23AE5-8FE0-4811-BB92-BD057EC8B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79A2DEF4-78D6-44BD-B450-2E6A0156BAA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3132D41-90F3-4820-884D-E60EAD4C97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F3CFDAD-F141-4609-AFF2-480BBC0B9C4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A8CABFA-E292-47D6-919B-BCD1F90B8E1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FB5BB17-02D2-4A65-9080-DD10E6B883B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D8DB925F-3CD5-415B-A166-2C3761F8885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68A997E4-6B22-4D0F-98C7-44CFE512E64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7AAABA1F-AF23-4199-BCF3-B027AC07B71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51A3B03B-736A-412E-AD42-D2C2B9305F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D80B7D67-56B9-4514-B972-ACF10842106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left_bar art"/>
          <p:cNvPicPr/>
          <p:nvPr/>
        </p:nvPicPr>
        <p:blipFill>
          <a:blip r:embed="rId3"/>
          <a:stretch/>
        </p:blipFill>
        <p:spPr>
          <a:xfrm>
            <a:off x="0" y="0"/>
            <a:ext cx="2514600" cy="7086600"/>
          </a:xfrm>
          <a:prstGeom prst="rect">
            <a:avLst/>
          </a:prstGeom>
          <a:ln w="0">
            <a:noFill/>
          </a:ln>
        </p:spPr>
      </p:pic>
      <p:sp>
        <p:nvSpPr>
          <p:cNvPr id="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 name="PlaceHolder 3"/>
          <p:cNvSpPr>
            <a:spLocks noGrp="1"/>
          </p:cNvSpPr>
          <p:nvPr>
            <p:ph type="dt" idx="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4"/>
          <p:cNvSpPr>
            <a:spLocks noGrp="1"/>
          </p:cNvSpPr>
          <p:nvPr>
            <p:ph type="sldNum" idx="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8CB2-BF55-47A6-948E-456AB2806814}"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ftr" idx="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80"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81" name="PlaceHolder 3"/>
          <p:cNvSpPr>
            <a:spLocks noGrp="1"/>
          </p:cNvSpPr>
          <p:nvPr>
            <p:ph type="dt" idx="27"/>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2" name="PlaceHolder 4"/>
          <p:cNvSpPr>
            <a:spLocks noGrp="1"/>
          </p:cNvSpPr>
          <p:nvPr>
            <p:ph type="sldNum" idx="28"/>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7C37-AA70-4AB2-904B-9000A09972AD}"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83" name="PlaceHolder 5"/>
          <p:cNvSpPr>
            <a:spLocks noGrp="1"/>
          </p:cNvSpPr>
          <p:nvPr>
            <p:ph type="ftr" idx="29"/>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21"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22" name="PlaceHolder 3"/>
          <p:cNvSpPr>
            <a:spLocks noGrp="1"/>
          </p:cNvSpPr>
          <p:nvPr>
            <p:ph type="dt" idx="30"/>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PlaceHolder 4"/>
          <p:cNvSpPr>
            <a:spLocks noGrp="1"/>
          </p:cNvSpPr>
          <p:nvPr>
            <p:ph type="sldNum" idx="31"/>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659A-46EC-4248-AF44-7C45F75882D0}"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24" name="PlaceHolder 5"/>
          <p:cNvSpPr>
            <a:spLocks noGrp="1"/>
          </p:cNvSpPr>
          <p:nvPr>
            <p:ph type="ftr" idx="32"/>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6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63" name="PlaceHolder 3"/>
          <p:cNvSpPr>
            <a:spLocks noGrp="1"/>
          </p:cNvSpPr>
          <p:nvPr>
            <p:ph type="dt" idx="33"/>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PlaceHolder 4"/>
          <p:cNvSpPr>
            <a:spLocks noGrp="1"/>
          </p:cNvSpPr>
          <p:nvPr>
            <p:ph type="sldNum" idx="34"/>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A268-C926-45B4-997F-39EADC9E7C7E}"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65" name="PlaceHolder 5"/>
          <p:cNvSpPr>
            <a:spLocks noGrp="1"/>
          </p:cNvSpPr>
          <p:nvPr>
            <p:ph type="ftr" idx="35"/>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503"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504" name="PlaceHolder 3"/>
          <p:cNvSpPr>
            <a:spLocks noGrp="1"/>
          </p:cNvSpPr>
          <p:nvPr>
            <p:ph type="dt" idx="36"/>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5" name="PlaceHolder 4"/>
          <p:cNvSpPr>
            <a:spLocks noGrp="1"/>
          </p:cNvSpPr>
          <p:nvPr>
            <p:ph type="sldNum" idx="37"/>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5966-4F16-4E9A-8996-68E0168D078A}"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06" name="PlaceHolder 5"/>
          <p:cNvSpPr>
            <a:spLocks noGrp="1"/>
          </p:cNvSpPr>
          <p:nvPr>
            <p:ph type="ftr" idx="38"/>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3"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4"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5"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6"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4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9" name="PlaceHolder 3"/>
          <p:cNvSpPr>
            <a:spLocks noGrp="1"/>
          </p:cNvSpPr>
          <p:nvPr>
            <p:ph type="dt" idx="39"/>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0" name="PlaceHolder 4"/>
          <p:cNvSpPr>
            <a:spLocks noGrp="1"/>
          </p:cNvSpPr>
          <p:nvPr>
            <p:ph type="ftr" idx="40"/>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1" name="PlaceHolder 5"/>
          <p:cNvSpPr>
            <a:spLocks noGrp="1"/>
          </p:cNvSpPr>
          <p:nvPr>
            <p:ph type="sldNum" idx="41"/>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AD8A-1E0E-4693-BDD0-33150F3B89F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8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90" name="PlaceHolder 3"/>
          <p:cNvSpPr>
            <a:spLocks noGrp="1"/>
          </p:cNvSpPr>
          <p:nvPr>
            <p:ph type="dt" idx="4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1" name="PlaceHolder 4"/>
          <p:cNvSpPr>
            <a:spLocks noGrp="1"/>
          </p:cNvSpPr>
          <p:nvPr>
            <p:ph type="ftr" idx="4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2" name="PlaceHolder 5"/>
          <p:cNvSpPr>
            <a:spLocks noGrp="1"/>
          </p:cNvSpPr>
          <p:nvPr>
            <p:ph type="sldNum" idx="4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E58C-F782-4921-A498-076F3A66CEC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2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6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633" name="PlaceHolder 3"/>
          <p:cNvSpPr>
            <a:spLocks noGrp="1"/>
          </p:cNvSpPr>
          <p:nvPr>
            <p:ph type="dt" idx="45"/>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4" name="PlaceHolder 4"/>
          <p:cNvSpPr>
            <a:spLocks noGrp="1"/>
          </p:cNvSpPr>
          <p:nvPr>
            <p:ph type="ftr" idx="46"/>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5" name="PlaceHolder 5"/>
          <p:cNvSpPr>
            <a:spLocks noGrp="1"/>
          </p:cNvSpPr>
          <p:nvPr>
            <p:ph type="sldNum" idx="47"/>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A261-135E-4EBA-942E-0D6EB4553F74}"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6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674" name="PlaceHolder 3"/>
          <p:cNvSpPr>
            <a:spLocks noGrp="1"/>
          </p:cNvSpPr>
          <p:nvPr>
            <p:ph type="dt" idx="4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5" name="PlaceHolder 4"/>
          <p:cNvSpPr>
            <a:spLocks noGrp="1"/>
          </p:cNvSpPr>
          <p:nvPr>
            <p:ph type="ftr" idx="4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6" name="PlaceHolder 5"/>
          <p:cNvSpPr>
            <a:spLocks noGrp="1"/>
          </p:cNvSpPr>
          <p:nvPr>
            <p:ph type="sldNum" idx="5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68E8-C1CE-441B-AAE7-4426FBF8BB7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1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15" name="PlaceHolder 3"/>
          <p:cNvSpPr>
            <a:spLocks noGrp="1"/>
          </p:cNvSpPr>
          <p:nvPr>
            <p:ph type="dt" idx="5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6" name="PlaceHolder 4"/>
          <p:cNvSpPr>
            <a:spLocks noGrp="1"/>
          </p:cNvSpPr>
          <p:nvPr>
            <p:ph type="ftr" idx="5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7" name="PlaceHolder 5"/>
          <p:cNvSpPr>
            <a:spLocks noGrp="1"/>
          </p:cNvSpPr>
          <p:nvPr>
            <p:ph type="sldNum" idx="5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E3BC-0EA1-4F0D-9A0F-80AA7DC9BE8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54"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57" name="PlaceHolder 3"/>
          <p:cNvSpPr>
            <a:spLocks noGrp="1"/>
          </p:cNvSpPr>
          <p:nvPr>
            <p:ph type="dt" idx="5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8" name="PlaceHolder 4"/>
          <p:cNvSpPr>
            <a:spLocks noGrp="1"/>
          </p:cNvSpPr>
          <p:nvPr>
            <p:ph type="ftr" idx="5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9" name="PlaceHolder 5"/>
          <p:cNvSpPr>
            <a:spLocks noGrp="1"/>
          </p:cNvSpPr>
          <p:nvPr>
            <p:ph type="sldNum" idx="5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EF0B-A38A-4599-8DB2-DDF0EA9992F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BF82-EF59-4DBB-B159-40310A5C9B0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4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50" name="Picture 2" descr="left_bar art"/>
          <p:cNvPicPr/>
          <p:nvPr/>
        </p:nvPicPr>
        <p:blipFill>
          <a:blip r:embed="rId3"/>
          <a:stretch/>
        </p:blipFill>
        <p:spPr>
          <a:xfrm>
            <a:off x="0" y="0"/>
            <a:ext cx="2514600" cy="708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9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00" name="PlaceHolder 3"/>
          <p:cNvSpPr>
            <a:spLocks noGrp="1"/>
          </p:cNvSpPr>
          <p:nvPr>
            <p:ph type="dt" idx="5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1" name="PlaceHolder 4"/>
          <p:cNvSpPr>
            <a:spLocks noGrp="1"/>
          </p:cNvSpPr>
          <p:nvPr>
            <p:ph type="ftr" idx="5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2" name="PlaceHolder 5"/>
          <p:cNvSpPr>
            <a:spLocks noGrp="1"/>
          </p:cNvSpPr>
          <p:nvPr>
            <p:ph type="sldNum" idx="5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56D3-A01B-4D58-9ED5-C896FC28674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0"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1"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44" name="PlaceHolder 3"/>
          <p:cNvSpPr>
            <a:spLocks noGrp="1"/>
          </p:cNvSpPr>
          <p:nvPr>
            <p:ph type="dt" idx="6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5" name="PlaceHolder 4"/>
          <p:cNvSpPr>
            <a:spLocks noGrp="1"/>
          </p:cNvSpPr>
          <p:nvPr>
            <p:ph type="ftr" idx="6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6" name="PlaceHolder 5"/>
          <p:cNvSpPr>
            <a:spLocks noGrp="1"/>
          </p:cNvSpPr>
          <p:nvPr>
            <p:ph type="sldNum" idx="6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54D3-879F-43BC-AD2A-BF520B887BE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5"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88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888" name="PlaceHolder 3"/>
          <p:cNvSpPr>
            <a:spLocks noGrp="1"/>
          </p:cNvSpPr>
          <p:nvPr>
            <p:ph type="dt" idx="6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9" name="PlaceHolder 4"/>
          <p:cNvSpPr>
            <a:spLocks noGrp="1"/>
          </p:cNvSpPr>
          <p:nvPr>
            <p:ph type="ftr" idx="6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0" name="PlaceHolder 5"/>
          <p:cNvSpPr>
            <a:spLocks noGrp="1"/>
          </p:cNvSpPr>
          <p:nvPr>
            <p:ph type="sldNum" idx="6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E0F7-B5CC-43A8-ABF5-598FA05F0371}"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29" name="PlaceHolder 3"/>
          <p:cNvSpPr>
            <a:spLocks noGrp="1"/>
          </p:cNvSpPr>
          <p:nvPr>
            <p:ph type="dt" idx="6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0" name="PlaceHolder 4"/>
          <p:cNvSpPr>
            <a:spLocks noGrp="1"/>
          </p:cNvSpPr>
          <p:nvPr>
            <p:ph type="ftr" idx="6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1" name="PlaceHolder 5"/>
          <p:cNvSpPr>
            <a:spLocks noGrp="1"/>
          </p:cNvSpPr>
          <p:nvPr>
            <p:ph type="sldNum" idx="6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F3B5-9192-4D62-83FC-85D6F63B30C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73" name="PlaceHolder 3"/>
          <p:cNvSpPr>
            <a:spLocks noGrp="1"/>
          </p:cNvSpPr>
          <p:nvPr>
            <p:ph type="dt" idx="6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4" name="PlaceHolder 4"/>
          <p:cNvSpPr>
            <a:spLocks noGrp="1"/>
          </p:cNvSpPr>
          <p:nvPr>
            <p:ph type="ftr" idx="7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5" name="PlaceHolder 5"/>
          <p:cNvSpPr>
            <a:spLocks noGrp="1"/>
          </p:cNvSpPr>
          <p:nvPr>
            <p:ph type="sldNum" idx="7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2751-B7D9-4DA9-9D00-9B870B2F041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012" name="Picture 2" descr="left_bar art"/>
          <p:cNvPicPr/>
          <p:nvPr/>
        </p:nvPicPr>
        <p:blipFill>
          <a:blip r:embed="rId3"/>
          <a:stretch/>
        </p:blipFill>
        <p:spPr>
          <a:xfrm>
            <a:off x="0" y="0"/>
            <a:ext cx="2514600" cy="7086600"/>
          </a:xfrm>
          <a:prstGeom prst="rect">
            <a:avLst/>
          </a:prstGeom>
          <a:ln w="0">
            <a:noFill/>
          </a:ln>
        </p:spPr>
      </p:pic>
      <p:sp>
        <p:nvSpPr>
          <p:cNvPr id="1013"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4"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15"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1016"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10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0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019" name="PlaceHolder 3"/>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BE43-1692-47E7-A0FD-3C5A28E637BA}"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1020" name="PlaceHolder 4"/>
          <p:cNvSpPr>
            <a:spLocks noGrp="1"/>
          </p:cNvSpPr>
          <p:nvPr>
            <p:ph type="ftr" idx="73"/>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7" name="Picture 2" descr="left_bar art"/>
          <p:cNvPicPr/>
          <p:nvPr/>
        </p:nvPicPr>
        <p:blipFill>
          <a:blip r:embed="rId3"/>
          <a:stretch/>
        </p:blipFill>
        <p:spPr>
          <a:xfrm>
            <a:off x="0" y="0"/>
            <a:ext cx="2514600" cy="7086600"/>
          </a:xfrm>
          <a:prstGeom prst="rect">
            <a:avLst/>
          </a:prstGeom>
          <a:ln w="0">
            <a:noFill/>
          </a:ln>
        </p:spPr>
      </p:pic>
      <p:sp>
        <p:nvSpPr>
          <p:cNvPr id="88"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8"/>
          <p:cNvSpPr/>
          <p:nvPr/>
        </p:nvSpPr>
        <p:spPr>
          <a:xfrm>
            <a:off x="1828800" y="5791320"/>
            <a:ext cx="6400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ias M. Awad</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0"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1"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92"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9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9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95"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B2D0-F026-44DC-8A7B-6CD0B69776B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3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35" name="PlaceHolder 3"/>
          <p:cNvSpPr>
            <a:spLocks noGrp="1"/>
          </p:cNvSpPr>
          <p:nvPr>
            <p:ph type="dt" idx="9"/>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6" name="PlaceHolder 4"/>
          <p:cNvSpPr>
            <a:spLocks noGrp="1"/>
          </p:cNvSpPr>
          <p:nvPr>
            <p:ph type="sldNum" idx="10"/>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A7A6-55A0-442E-ABDE-46E4471ECC31}"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37" name="PlaceHolder 5"/>
          <p:cNvSpPr>
            <a:spLocks noGrp="1"/>
          </p:cNvSpPr>
          <p:nvPr>
            <p:ph type="ftr" idx="11"/>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75"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76" name="PlaceHolder 3"/>
          <p:cNvSpPr>
            <a:spLocks noGrp="1"/>
          </p:cNvSpPr>
          <p:nvPr>
            <p:ph type="dt" idx="12"/>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PlaceHolder 4"/>
          <p:cNvSpPr>
            <a:spLocks noGrp="1"/>
          </p:cNvSpPr>
          <p:nvPr>
            <p:ph type="sldNum" idx="13"/>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2CED-1043-4011-BA36-1BBA4DAFE0F9}"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78" name="PlaceHolder 5"/>
          <p:cNvSpPr>
            <a:spLocks noGrp="1"/>
          </p:cNvSpPr>
          <p:nvPr>
            <p:ph type="ftr" idx="14"/>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16"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17" name="PlaceHolder 3"/>
          <p:cNvSpPr>
            <a:spLocks noGrp="1"/>
          </p:cNvSpPr>
          <p:nvPr>
            <p:ph type="dt" idx="15"/>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8" name="PlaceHolder 4"/>
          <p:cNvSpPr>
            <a:spLocks noGrp="1"/>
          </p:cNvSpPr>
          <p:nvPr>
            <p:ph type="sldNum" idx="16"/>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F2B5-C986-40FE-8914-DA17F756E982}"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19" name="PlaceHolder 5"/>
          <p:cNvSpPr>
            <a:spLocks noGrp="1"/>
          </p:cNvSpPr>
          <p:nvPr>
            <p:ph type="ftr" idx="17"/>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57"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58" name="PlaceHolder 3"/>
          <p:cNvSpPr>
            <a:spLocks noGrp="1"/>
          </p:cNvSpPr>
          <p:nvPr>
            <p:ph type="dt" idx="18"/>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PlaceHolder 4"/>
          <p:cNvSpPr>
            <a:spLocks noGrp="1"/>
          </p:cNvSpPr>
          <p:nvPr>
            <p:ph type="sldNum" idx="19"/>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B3E2-DCD8-4444-8417-D4192C34A79B}"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60" name="PlaceHolder 5"/>
          <p:cNvSpPr>
            <a:spLocks noGrp="1"/>
          </p:cNvSpPr>
          <p:nvPr>
            <p:ph type="ftr" idx="20"/>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98"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99" name="PlaceHolder 3"/>
          <p:cNvSpPr>
            <a:spLocks noGrp="1"/>
          </p:cNvSpPr>
          <p:nvPr>
            <p:ph type="dt" idx="2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0" name="PlaceHolder 4"/>
          <p:cNvSpPr>
            <a:spLocks noGrp="1"/>
          </p:cNvSpPr>
          <p:nvPr>
            <p:ph type="sldNum" idx="2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2739-2526-49E0-8A2E-8ADBA26FECE6}"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01" name="PlaceHolder 5"/>
          <p:cNvSpPr>
            <a:spLocks noGrp="1"/>
          </p:cNvSpPr>
          <p:nvPr>
            <p:ph type="ftr" idx="2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39"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40" name="PlaceHolder 3"/>
          <p:cNvSpPr>
            <a:spLocks noGrp="1"/>
          </p:cNvSpPr>
          <p:nvPr>
            <p:ph type="dt" idx="24"/>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PlaceHolder 4"/>
          <p:cNvSpPr>
            <a:spLocks noGrp="1"/>
          </p:cNvSpPr>
          <p:nvPr>
            <p:ph type="sldNum" idx="25"/>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A74B-87B2-4CC5-9066-4AA520947D22}"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42" name="PlaceHolder 5"/>
          <p:cNvSpPr>
            <a:spLocks noGrp="1"/>
          </p:cNvSpPr>
          <p:nvPr>
            <p:ph type="ftr" idx="26"/>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4"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014E-681A-469E-9506-178464B26955}" type="slidenum">
              <a:rPr b="0" i="1" lang="en-US" sz="1400" spc="-1" strike="noStrike">
                <a:solidFill>
                  <a:srgbClr val="996633"/>
                </a:solidFill>
                <a:latin typeface="Arial"/>
              </a:rPr>
              <a:t>&lt;number&gt;</a:t>
            </a:fld>
            <a:endParaRPr b="0" i="1" lang="en-US" sz="1400" spc="-1" strike="noStrike">
              <a:solidFill>
                <a:srgbClr val="000000"/>
              </a:solidFill>
              <a:latin typeface="Arial"/>
            </a:endParaRPr>
          </a:p>
        </p:txBody>
      </p:sp>
      <p:sp>
        <p:nvSpPr>
          <p:cNvPr id="1065" name="Rectangle 12"/>
          <p:cNvSpPr/>
          <p:nvPr/>
        </p:nvSpPr>
        <p:spPr>
          <a:xfrm>
            <a:off x="3124080" y="6245280"/>
            <a:ext cx="33530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6" name="Rectangle 7"/>
          <p:cNvSpPr/>
          <p:nvPr/>
        </p:nvSpPr>
        <p:spPr>
          <a:xfrm>
            <a:off x="380880" y="2286000"/>
            <a:ext cx="86868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Chapter Seven</a:t>
            </a:r>
            <a:endParaRPr b="0"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Ecommerce Strategy</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rPr>
              <a:t>Learning objectives</a:t>
            </a:r>
            <a:endParaRPr b="0" lang="en-US" sz="4000" spc="-1" strike="noStrike">
              <a:solidFill>
                <a:srgbClr val="464653"/>
              </a:solidFill>
              <a:latin typeface="Bookman Old Style"/>
            </a:endParaRPr>
          </a:p>
        </p:txBody>
      </p:sp>
      <p:sp>
        <p:nvSpPr>
          <p:cNvPr id="10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rategic positioning of ecommer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etitive advantage from ecommerce</a:t>
            </a:r>
            <a:endParaRPr b="0" lang="en-US" sz="2000" spc="-1" strike="noStrike">
              <a:solidFill>
                <a:srgbClr val="000000"/>
              </a:solidFill>
              <a:latin typeface="Gill Sans MT"/>
            </a:endParaRPr>
          </a:p>
        </p:txBody>
      </p:sp>
      <p:sp>
        <p:nvSpPr>
          <p:cNvPr id="106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AB08-58BB-48F9-A5DE-33D208487157}"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10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rnet has impacted on the way we interacted with friends, carried out our business operation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as impacted on brand equity  of a fi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as created competitive advanta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as built brand awareness in online markets through ecommerce rout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xisting brand assets onlin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etitive ecommerce initiatives</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br>
              <a:rPr sz="2300"/>
            </a:br>
            <a:endParaRPr b="0" lang="en-US" sz="2300" spc="-1" strike="noStrike">
              <a:solidFill>
                <a:srgbClr val="464653"/>
              </a:solidFill>
              <a:latin typeface="Gill Sans MT"/>
            </a:endParaRPr>
          </a:p>
        </p:txBody>
      </p:sp>
      <p:sp>
        <p:nvSpPr>
          <p:cNvPr id="107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134E-7761-4F39-9898-1A3E22A967B6}"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CASE : Indian Railways – strategic initiatives using ecommerce</a:t>
            </a:r>
            <a:br>
              <a:rPr sz="2000"/>
            </a:br>
            <a:endParaRPr b="0" lang="en-US" sz="2000" spc="-1" strike="noStrike">
              <a:solidFill>
                <a:srgbClr val="464653"/>
              </a:solidFill>
              <a:latin typeface="Bookman Old Style"/>
            </a:endParaRPr>
          </a:p>
        </p:txBody>
      </p:sp>
      <p:sp>
        <p:nvSpPr>
          <p:cNvPr id="1075" name=""/>
          <p:cNvSpPr txBox="1"/>
          <p:nvPr/>
        </p:nvSpPr>
        <p:spPr>
          <a:xfrm>
            <a:off x="304920" y="2133720"/>
            <a:ext cx="8229600" cy="838080"/>
          </a:xfrm>
          <a:prstGeom prst="rect">
            <a:avLst/>
          </a:prstGeom>
          <a:noFill/>
          <a:ln w="0">
            <a:noFill/>
          </a:ln>
        </p:spPr>
        <p:txBody>
          <a:bodyPr anchor="t">
            <a:normAutofit fontScale="39000"/>
          </a:bodyPr>
          <a:p>
            <a:pPr marL="106200" indent="-10620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The company initially dealt with automating business processes only. It provided ticketing facilities to customers who benefitted from its transparent operations (through ecommerce). Today, it has used ecommerce to collaborate with other logistics partners to provide tourism services, hotel accommodation, flight tickets. This case can also be compared with Amazon.com, where using ecommerce capabilities, they have taken strategic initiatives to provide kindle and tablet based ebooks.</a:t>
            </a:r>
            <a:endParaRPr b="0" lang="en-US" sz="2600" spc="-1" strike="noStrike">
              <a:solidFill>
                <a:srgbClr val="000000"/>
              </a:solidFill>
              <a:latin typeface="Gill Sans MT"/>
            </a:endParaRPr>
          </a:p>
        </p:txBody>
      </p:sp>
      <p:sp>
        <p:nvSpPr>
          <p:cNvPr id="107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4C3E-4DEC-4CA8-9E10-DC7466E3DD55}"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Brand equity through ecommerce</a:t>
            </a:r>
            <a:endParaRPr b="0" lang="en-US" sz="3200" spc="-1" strike="noStrike">
              <a:solidFill>
                <a:srgbClr val="464653"/>
              </a:solidFill>
              <a:latin typeface="Bookman Old Style"/>
            </a:endParaRPr>
          </a:p>
        </p:txBody>
      </p:sp>
      <p:sp>
        <p:nvSpPr>
          <p:cNvPr id="10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rand equity </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ttracts good human resources</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justifies higher margins</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builds influence over distribution channels</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akes time to be built over time by </a:t>
            </a:r>
            <a:endParaRPr b="0" lang="en-US" sz="20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vesting in mass-media advertising </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liable customer servi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rand equity through ecommerce</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Removes constraints of geography</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imeliness, </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t reduced cost</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Mass advertisement</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Deeper reach</a:t>
            </a:r>
            <a:endParaRPr b="0" lang="en-US" sz="2000" spc="-1" strike="noStrike">
              <a:solidFill>
                <a:srgbClr val="464653"/>
              </a:solidFill>
              <a:latin typeface="Gill Sans MT"/>
            </a:endParaRPr>
          </a:p>
        </p:txBody>
      </p:sp>
      <p:sp>
        <p:nvSpPr>
          <p:cNvPr id="1080"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8E6F-B9A9-4072-8037-1FC1A7D1B0DE}"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759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Bookman Old Style"/>
              </a:rPr>
              <a:t>Assessing readiness of existing brands</a:t>
            </a:r>
            <a:endParaRPr b="0" lang="en-US" sz="2800" spc="-1" strike="noStrike">
              <a:solidFill>
                <a:srgbClr val="464653"/>
              </a:solidFill>
              <a:latin typeface="Bookman Old Style"/>
            </a:endParaRPr>
          </a:p>
        </p:txBody>
      </p:sp>
      <p:sp>
        <p:nvSpPr>
          <p:cNvPr id="1083" name=""/>
          <p:cNvSpPr txBox="1"/>
          <p:nvPr/>
        </p:nvSpPr>
        <p:spPr>
          <a:xfrm>
            <a:off x="457200" y="1066320"/>
            <a:ext cx="8229600" cy="4937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termine brand equity</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the risks involved in being the first mover in the industry</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the readiness of customers for online surfing</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brand compatibility with ecommerce and online marketing </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the degree of transparency for the products (in terms of product information, pricing </a:t>
            </a:r>
            <a:endParaRPr b="0" lang="en-US" sz="17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ignment with changing customer behavior</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encourages customer-to-customer communications</a:t>
            </a:r>
            <a:endParaRPr b="0" lang="en-US" sz="1800" spc="-1" strike="noStrike">
              <a:solidFill>
                <a:srgbClr val="464653"/>
              </a:solidFill>
              <a:latin typeface="Gill Sans MT"/>
            </a:endParaRPr>
          </a:p>
        </p:txBody>
      </p:sp>
      <p:sp>
        <p:nvSpPr>
          <p:cNvPr id="108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E18E-D4FD-4064-BD4E-C2A77510616E}"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Summary</a:t>
            </a:r>
            <a:endParaRPr b="0" lang="en-US" sz="3200" spc="-1" strike="noStrike">
              <a:solidFill>
                <a:srgbClr val="464653"/>
              </a:solidFill>
              <a:latin typeface="Bookman Old Style"/>
            </a:endParaRPr>
          </a:p>
        </p:txBody>
      </p:sp>
      <p:sp>
        <p:nvSpPr>
          <p:cNvPr id="10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To remain competitive in ecommerce business, a firm should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Increase in repeat busines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Using interactive technolog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Creating a brand equity</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Strategic initiative to collaborate with business partner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Advertisement (digita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Consistent performance</a:t>
            </a: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8"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31A5-55C2-478A-921C-D354E0C232E4}"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2T00:21:47Z</dcterms:created>
  <dc:creator>RGPlatt</dc:creator>
  <dc:description/>
  <dc:language>en-US</dc:language>
  <cp:lastModifiedBy>Sanjay</cp:lastModifiedBy>
  <dcterms:modified xsi:type="dcterms:W3CDTF">2013-04-03T13:44:24Z</dcterms:modified>
  <cp:revision>403</cp:revision>
  <dc:subject>Awad 3rd ed</dc:subject>
  <dc:title>The Dawn of a Maturing Indus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